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60B-209F-48B8-A793-355FAA1B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097-0C21-48C7-93B7-05758CFC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069-973E-4E0E-A6FB-2EE2938A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684-9F51-404E-A354-2430BF7E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BBD-6F59-49BD-8DA1-55FF09CF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C2C-20CF-4E89-B396-13AFD673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B6B-C8AE-47B1-BF87-BAD399C7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924-3961-4F86-9ADE-802E42F7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67F-99F9-4D31-B83D-65F01E99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555-520B-4245-A443-9A1E4BCB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EEC-187D-4E41-A74B-A528BF11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212-BDDA-4D7C-98E1-DD97AE77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1184-3BB7-4E3B-9496-239591AD3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045520" y="50004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1f497d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1f497d"/>
                </a:solidFill>
                <a:latin typeface="Times New Roman"/>
              </a:rPr>
              <a:t>Интегрисане академске студије </a:t>
            </a: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стомат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24000" y="17524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МОДУЛ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1f497d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1f497d"/>
                </a:solidFill>
                <a:latin typeface="Times New Roman"/>
              </a:rPr>
              <a:t>Посебни видови вештине комун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835280" y="3124080"/>
            <a:ext cx="554508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1f497d"/>
                </a:solidFill>
                <a:latin typeface="Times New Roman"/>
              </a:rPr>
              <a:t>7</a:t>
            </a:r>
            <a:r>
              <a:rPr b="1" lang="sr-CS" sz="2200" spc="-1" strike="noStrike">
                <a:solidFill>
                  <a:srgbClr val="1f497d"/>
                </a:solidFill>
                <a:latin typeface="Times New Roman"/>
              </a:rPr>
              <a:t>. наставна јединица (седм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Вештина комуникације са особама дечјег и адолесцентног у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740040" y="599760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f497d"/>
                </a:solidFill>
                <a:latin typeface="Times New Roman"/>
              </a:rPr>
              <a:t>Проф. др Биљана Вулет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АЗГОВОР НА ПРИЈЕМУ У КЛИНИ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5554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АНАМНЕЗА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Хетероанамне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Ко је особа која даје анамнез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Родите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Старате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Наставник, васпитачиц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Очевидац нежељеног догађај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080" y="1534680"/>
            <a:ext cx="2951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ВОЂЕЊЕ АНАМНЕ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Кратки разгов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Информатив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Циљана пита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Садржај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Наводи га лека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Не сма бити сугестив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ЕГЛЕД  НА ПРИЈЕМУ У КЛИНИ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бјаснити поступ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ратко време тиш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ез комента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ити одлуч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 застрашива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ледати у де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азумљив јез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 тражити дозво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штовати приват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исуство пратиоц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пријатно за кра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 плашити г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 поредити са друг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 покушавати физички га савлада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ГДЕ СЕ ВОДЕ РАЗГОВОРИ 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а пријему у клинику , болницу - 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Током хоспитализациј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ликом припреме  детета за посебне процед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ликом отпуста са клинике , болн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Током контролних прегле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 ТОКУ ХОСПИТАЛИЗА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318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мештај у једницу интензивне не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мештај у собу на одељењ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остаје само или са мај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однос са другом дец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анимација у периоду опорав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ГДЕ СЕ ВОДЕ РАЗГОВОРИ 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а пријему у клинику , болницу, 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Током хоспитализациј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Приликом припреме  детета за посебне процед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ликом отпуста са клинике , болн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Током контролних прегле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ПРЕМА ДЕЦЕ ЗА ПОСЕБНЕ ПРОЦЕДУРЕ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авање интравенске и интрамускуларне тера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зорковање крв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мерење артеријског притиска и сатура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пирометр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E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гастроскоп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лтразвучни прегле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ентген дијагнос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ГДЕ СЕ ВОДЕ РАЗГОВОРИ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а пријему у клинику , болницу, 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Током хоспитализациј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ликом припреме  детета за посебне процед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Приликом отпуста са клинике , болн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Током контролних прегле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ОТПУСТ СА КЛИНИ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81584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тумачење свих анализа и учињених прегле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терапијски проток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аветовање о правилној исхр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физичка актив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пособност за похађање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оговор око контрол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ГДЕ СЕ ВОДЕ РАЗГОВОРИ 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280" y="198900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а пријему у клинику , болницу, 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Током хоспитализациј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ликом припреме  детета за посебне процед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ликом отпуста са клинике , болн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Током контролних прегле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НТРОЛНИ  ПРЕГЛЕД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акутн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еспираторн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нфе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епилептичн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апад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руг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ароксизмалн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огађа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акутн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ентерокол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спорен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сихомоторн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азвој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хроничн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болест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леукемиј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ефротск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индром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рчан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ман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индром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формит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08000" y="13510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мун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вербалн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неверба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„</a:t>
            </a: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Лекар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више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греши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зато што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недовољно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гледа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него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зато што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недовољно</a:t>
            </a:r>
            <a:r>
              <a:rPr b="1" lang="sr-Latn-C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зна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 Narrow"/>
              </a:rPr>
              <a:t>ПОСЕБНЕ КАТЕГОРИЈЕ ПАЦИЈЕНАТА 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витално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грожено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т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еспирато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нфаустн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тањ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ц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ј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жив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ностранст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ца са поремећајем у психомоторном развој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ступ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тету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ј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мор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хоспитализуј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линици у дужем перио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 Narrow"/>
              </a:rPr>
              <a:t>ПОСЕБНЕ КАТЕГОРИЈЕ ПАЦИЈЕНАТА 2 Адолесцен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осебно вулнерабилна група пацијен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а граници детета и одрасло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мешовита патологија – преклапа се понек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бунтовни , својеглави, конзумирају опија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тешко приступач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одбијају помо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клони конверзивном реаговањ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 Narrow"/>
              </a:rPr>
              <a:t>ПОСЕБНЕ КАТЕГОРИЈЕ ПАЦИЈЕНАТА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одитељ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спореним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сихомоторним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азвој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одитељ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ј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могу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е суоче са болешћу дет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одитељ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ј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ају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лажн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нфо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одитељ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ј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стају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едложен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оцедур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спитивањ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одитељи који не желе да оставе дете у клини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спех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еуспех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муникациј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отреб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з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нсултативним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еглед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сихол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сихијатра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оцијалног радник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                       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а понека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                                      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олиције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                                      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у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00040" y="113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И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наравно,на крај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највећа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захвалност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за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сав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наш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труд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су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осмеси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безбрижно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детињство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деце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којој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смо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могли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да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помогнемо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вака комуникација  у ординацији има два см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Модеран  лекар данас мора д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„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ча, мисли, слуша и куца у исто време“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600360" y="6083280"/>
            <a:ext cx="464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Talking to Patients in the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 21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st Century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Zuger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 (20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620640"/>
            <a:ext cx="8578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кључивање детета у разговор  приликом прегл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довољно времена за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стрпљиво сачекати на одгов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поред вербалног употребити и говор те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гледати у дете а не у сат или мобилни телеф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охрабрити га пријатним осмех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знати име детета пре уласка у болесничку соб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- увек ословљавати родитеље именом а не са „мама „ или „тата“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ечник током узимања анамне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језик опхођења мора бити јасан и разумљив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тручне изразе и медицинске фразе  избегав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1285920"/>
            <a:ext cx="94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Вештин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муникациј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а релациј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-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-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одитељ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старатељ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особ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кој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ј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овел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-  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особљ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 здравствен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руги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радници 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Околности и усло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пријемн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амбула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служб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хитн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медицинск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помоћ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одељењ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интензивн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не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болесничка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со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присуство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других</a:t>
            </a:r>
            <a:r>
              <a:rPr b="0" lang="sr-C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осо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ца различитог узрас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новорођен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одој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мало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едшколско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дете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школског</a:t>
            </a:r>
            <a:r>
              <a:rPr b="0" lang="sr-Latn-R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уз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адолесц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ГДЕ СЕ ВОДЕ РАЗГОВОРИ 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 Narrow"/>
              </a:rPr>
              <a:t>На пријему у клинику , болницу - 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Током хоспитализациј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ликом припреме  детета за посебне процед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Приликом отпуста са клинике , болн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 Narrow"/>
              </a:rPr>
              <a:t>Током контролних прегледа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9:19:45Z</dcterms:created>
  <dc:creator>MarijaR9</dc:creator>
  <dc:description/>
  <dc:language>en-US</dc:language>
  <cp:lastModifiedBy>Slavica</cp:lastModifiedBy>
  <dcterms:modified xsi:type="dcterms:W3CDTF">2017-01-28T18:50:21Z</dcterms:modified>
  <cp:revision>22</cp:revision>
  <dc:subject/>
  <dc:title>VEŠTINA  KOMUNIKACIJE</dc:title>
</cp:coreProperties>
</file>